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2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D4C7-94A3-4CF8-9290-61E5FD59C7F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3AA1899-F9BE-4F7A-B4A4-78B6444963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1B685DF-DD62-413D-93F4-46814A204D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59949D3-84DF-47A2-A018-F7EB607771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C5EC73D-8137-4F7D-9FD0-56FEF1959A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26213CD-0563-4949-963C-29FCC87BCEBA}" type="slidenum"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39E3937-C688-4998-92AB-BEE62F4A16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766E545-71AF-4224-B485-CF047931F2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199A3FE-4F84-4336-9C19-B0BDB7BBB1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4BDBC68-5399-43C9-AF4A-A92E7E24BE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BE36-1696-407A-883D-AAABFF9F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E184-9CA6-401A-9918-133840BB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CAC-2F49-40E0-86A7-B2FD3766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942-585C-492B-8498-AC6035BD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D57-2D10-48EB-818C-89F1DE16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5DC-2E99-477A-A623-FF94AC71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1F8-4DA8-4598-AC18-FC9BE053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3AD-6757-4C92-A13C-FB49A51A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F38A-11FB-4C48-814A-F8023BAA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AEE-C59A-4671-B380-1D969114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5B9-645C-4D69-B0F0-571BA635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8FE-089A-4A6F-ABC4-68F0BB59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79A9-2D1F-44B3-B4CF-B7D21E2FBFD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2865-765B-4ACC-BAEC-6B483901638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7 Imagen" descr="grupo banco provincia.jpg"/>
          <p:cNvPicPr/>
          <p:nvPr/>
        </p:nvPicPr>
        <p:blipFill>
          <a:blip r:embed="rId3"/>
          <a:stretch/>
        </p:blipFill>
        <p:spPr>
          <a:xfrm>
            <a:off x="7072200" y="285840"/>
            <a:ext cx="17859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hyperlink" Target="http://www.google.com/imgres?imgurl=http://www.megautos.com/images_db/imgsImg/Image/FORD/Ford%2520Cargo%25202011%252000.jpg&amp;imgrefurl=http://www.megautos.com/Ford-Camiones-renovara-la-linea-Cargo-en-Brasil-1066.html&amp;usg=__KKrUbSeJ_nT8IXsba-U6746OJMU=&amp;h=320&amp;w=490&amp;sz=27&amp;hl=es&amp;start=12&amp;zoom=1&amp;itbs=1&amp;tbnid=DuCnNO768YK3rM:&amp;tbnh=85&amp;tbnw=130&amp;prev=/images%3Fq%3Dford%2Bcargo%2B2011%26hl%3Des%26gbv%3D2%26tbm%3Disch&amp;ei=BLSoTYX-JIrh0QHGkdH5CA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ángulo 5"/>
          <p:cNvSpPr/>
          <p:nvPr/>
        </p:nvSpPr>
        <p:spPr>
          <a:xfrm>
            <a:off x="0" y="6035760"/>
            <a:ext cx="9144000" cy="82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n 4" descr="CARATULA PARQUES NACIONAL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61080"/>
          </a:xfrm>
          <a:prstGeom prst="rect">
            <a:avLst/>
          </a:prstGeom>
          <a:ln w="0">
            <a:noFill/>
          </a:ln>
        </p:spPr>
      </p:pic>
      <p:sp>
        <p:nvSpPr>
          <p:cNvPr id="52" name="CuadroTexto 6"/>
          <p:cNvSpPr/>
          <p:nvPr/>
        </p:nvSpPr>
        <p:spPr>
          <a:xfrm>
            <a:off x="457200" y="11430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55c96"/>
                </a:solidFill>
                <a:latin typeface="Arial"/>
                <a:ea typeface="ＭＳ Ｐゴシック"/>
              </a:rPr>
              <a:t>La mejor herramienta pa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55c96"/>
                </a:solidFill>
                <a:latin typeface="Arial"/>
                <a:ea typeface="ＭＳ Ｐゴシック"/>
              </a:rPr>
              <a:t>seguir crec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6093000"/>
            <a:ext cx="554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 Black"/>
              </a:rPr>
              <a:t>Lic. Rafael Torres Vidal - Gerente Comer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 Black"/>
              </a:rPr>
              <a:t>CPCE - Bs. As. 9 de Junio d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1979640" y="29700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04040"/>
                </a:solidFill>
                <a:latin typeface="Arial Black"/>
                <a:ea typeface="ＭＳ Ｐゴシック"/>
              </a:rPr>
              <a:t>Por qué las empresas toman </a:t>
            </a:r>
            <a:r>
              <a:rPr b="1" lang="es-AR" sz="2800" spc="-1" strike="noStrike">
                <a:solidFill>
                  <a:srgbClr val="404040"/>
                </a:solidFill>
                <a:latin typeface="Arial Black"/>
                <a:ea typeface="ＭＳ Ｐゴシック"/>
              </a:rPr>
              <a:t>Lea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03200" y="1338120"/>
            <a:ext cx="831708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2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Genera beneficios impos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2286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Permite deducir el canon de la base imponible Imp. G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2286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Difiere el pago del I.V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2286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No tributa impuesto a los Activos ni Gcia. Mín. Presu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2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Permite optimizar manejo de c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2286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Menor desembolso in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2286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No requiere presupuestar 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2286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Evita inmovilización de 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2286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0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Adaptabilidad de pagos con el cic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2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Facilita la actualización tecn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4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Terceriza administración, liberando RR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2"/>
          <a:stretch/>
        </p:blipFill>
        <p:spPr>
          <a:xfrm>
            <a:off x="345960" y="291960"/>
            <a:ext cx="1500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1000" y="115920"/>
            <a:ext cx="6742080" cy="6594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435640" y="0"/>
            <a:ext cx="1800360" cy="119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5640" y="1224000"/>
            <a:ext cx="1800360" cy="119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Rectángulo"/>
          <p:cNvSpPr/>
          <p:nvPr/>
        </p:nvSpPr>
        <p:spPr>
          <a:xfrm>
            <a:off x="2050920" y="17316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04040"/>
                </a:solidFill>
                <a:latin typeface="Arial Black"/>
                <a:ea typeface="ＭＳ Ｐゴシック"/>
              </a:rPr>
              <a:t>Leasing para indiv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903240"/>
            <a:ext cx="8497800" cy="5694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345960" y="291960"/>
            <a:ext cx="1500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9840" y="2236680"/>
            <a:ext cx="8985240" cy="28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9280" indent="-27000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móviles 0 Km. (uso particular)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NO taxis, remises y autos de alqu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tili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tos de alta g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tos de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tricic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arcaciones de pl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3 Rectángulo"/>
          <p:cNvSpPr/>
          <p:nvPr/>
        </p:nvSpPr>
        <p:spPr>
          <a:xfrm>
            <a:off x="2170080" y="27936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04040"/>
                </a:solidFill>
                <a:latin typeface="Arial Black"/>
                <a:ea typeface="ＭＳ Ｐゴシック"/>
              </a:rPr>
              <a:t>Leasing para indiv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3 Rectángulo"/>
          <p:cNvSpPr/>
          <p:nvPr/>
        </p:nvSpPr>
        <p:spPr>
          <a:xfrm>
            <a:off x="600480" y="148428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 Black"/>
                <a:ea typeface="ＭＳ Ｐゴシック"/>
              </a:rPr>
              <a:t>Que bienes financi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7"/>
          <a:stretch/>
        </p:blipFill>
        <p:spPr>
          <a:xfrm>
            <a:off x="345960" y="291960"/>
            <a:ext cx="1500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014200" y="260280"/>
            <a:ext cx="464508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 Black"/>
                <a:ea typeface="ＭＳ Ｐゴシック"/>
              </a:rPr>
              <a:t>A quienes esta dirig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47600" y="1279440"/>
            <a:ext cx="8823240" cy="46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4600" indent="-26532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s físicas en relación de dependencia o monotribut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1792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(Categorías H, I, J, K y L), autónomos ( excepto empleadores o inscriptos en G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ad entre 18 y 65 años (al finalizar el contra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gresos del grupo familiar superiores a los $8000 mens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güedad mín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17928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pleados : antigüedad mínima de 1 año o de 6 meses en el actual empleo con continuidad comprobable de 1 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17928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tributistas: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años inscripto en la A.F.I.P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532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ón cuota-ingreso menor o igual al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8"/>
          <a:stretch/>
        </p:blipFill>
        <p:spPr>
          <a:xfrm>
            <a:off x="345960" y="291960"/>
            <a:ext cx="1500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43280" y="245880"/>
            <a:ext cx="2665440" cy="51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 Black"/>
                <a:ea typeface="ＭＳ Ｐゴシック"/>
              </a:rPr>
              <a:t>Condi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9840" y="981000"/>
            <a:ext cx="8985240" cy="46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9280" indent="-27000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de $ 50.000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sin IVA para motos, Cuatriciclos y Embarc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Desde $ 80.000  sin  IVA  para automóviles y Pick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Hasta $ 400.000  IVA inclu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zo: 31 a 60 meses (a elección del Tom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cipo: de 0 a 35% (a elección del Tom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ción de compra: de 5 a 25% (a elección del Tom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guro de vida: incluido en el canon, cubre saldo de deuda y el resto para el beneficiario. Provincia Vida / Provincia Seg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guro del bien: Cobertura dependiendo del tipo de bien, ej. Automóviles terceros completo. Provincia Seg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6381720"/>
            <a:ext cx="46083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Las condiciones estarán sujetas a la aprobación de PL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9"/>
          <a:stretch/>
        </p:blipFill>
        <p:spPr>
          <a:xfrm>
            <a:off x="345960" y="291960"/>
            <a:ext cx="1500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611280" y="1357200"/>
            <a:ext cx="792144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ca y respal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 de Sucur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ye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 Especia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elidad de lo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258920" y="388800"/>
            <a:ext cx="59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040"/>
                </a:solidFill>
                <a:latin typeface="Arial Black"/>
                <a:ea typeface="ＭＳ Ｐゴシック"/>
              </a:rPr>
              <a:t>	</a:t>
            </a:r>
            <a:r>
              <a:rPr b="0" lang="es-MX" sz="2800" spc="-1" strike="noStrike">
                <a:solidFill>
                  <a:srgbClr val="404040"/>
                </a:solidFill>
                <a:latin typeface="Arial Black"/>
                <a:ea typeface="ＭＳ Ｐゴシック"/>
              </a:rPr>
              <a:t>Nuestras Fortale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6"/>
          <a:stretch/>
        </p:blipFill>
        <p:spPr>
          <a:xfrm>
            <a:off x="345960" y="291960"/>
            <a:ext cx="1500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53720" y="1530000"/>
            <a:ext cx="7010280" cy="81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marL="72000" indent="-720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9933"/>
                </a:solidFill>
                <a:latin typeface="Tahoma"/>
              </a:rPr>
              <a:t>MUCHAS GRAC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404040"/>
                </a:solidFill>
                <a:latin typeface="Tahoma"/>
              </a:rPr>
              <a:t>	</a:t>
            </a:r>
            <a:r>
              <a:rPr b="1" lang="es-MX" sz="3600" spc="-1" strike="noStrike">
                <a:solidFill>
                  <a:srgbClr val="40404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Imagen 6" descr="p leasing.jpg"/>
          <p:cNvPicPr/>
          <p:nvPr/>
        </p:nvPicPr>
        <p:blipFill>
          <a:blip r:embed="rId1"/>
          <a:stretch/>
        </p:blipFill>
        <p:spPr>
          <a:xfrm>
            <a:off x="2987640" y="2428920"/>
            <a:ext cx="3143160" cy="1073160"/>
          </a:xfrm>
          <a:prstGeom prst="rect">
            <a:avLst/>
          </a:prstGeom>
          <a:ln w="0">
            <a:noFill/>
          </a:ln>
        </p:spPr>
      </p:pic>
      <p:sp>
        <p:nvSpPr>
          <p:cNvPr id="135" name="Rectángulo 8"/>
          <p:cNvSpPr/>
          <p:nvPr/>
        </p:nvSpPr>
        <p:spPr>
          <a:xfrm>
            <a:off x="0" y="6248520"/>
            <a:ext cx="1828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1332000" y="3763800"/>
            <a:ext cx="6446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9933"/>
                </a:solidFill>
                <a:latin typeface="Arial"/>
              </a:rPr>
              <a:t>Contacto: 0810-122-532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33"/>
                </a:solidFill>
                <a:latin typeface="Arial"/>
              </a:rPr>
              <a:t>Lunes a Viernes de 8 a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339933"/>
                </a:solidFill>
                <a:latin typeface="Arial"/>
              </a:rPr>
              <a:t>Web</a:t>
            </a:r>
            <a:r>
              <a:rPr b="1" lang="es-ES" sz="2400" spc="-1" strike="noStrike">
                <a:solidFill>
                  <a:srgbClr val="339933"/>
                </a:solidFill>
                <a:latin typeface="Arial"/>
              </a:rPr>
              <a:t>: www.provincialeasing.com.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-785880" y="19512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lazos definidos por 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73"/>
          <p:cNvSpPr/>
          <p:nvPr/>
        </p:nvSpPr>
        <p:spPr>
          <a:xfrm>
            <a:off x="4248000" y="6093000"/>
            <a:ext cx="648000" cy="574560"/>
          </a:xfrm>
          <a:custGeom>
            <a:avLst/>
            <a:gdLst>
              <a:gd name="textAreaLeft" fmla="*/ 37080 w 648000"/>
              <a:gd name="textAreaRight" fmla="*/ 610920 w 64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359" h="21600">
                <a:moveTo>
                  <a:pt x="0" y="0"/>
                </a:moveTo>
                <a:lnTo>
                  <a:pt x="24359" y="0"/>
                </a:lnTo>
                <a:lnTo>
                  <a:pt x="24359" y="21600"/>
                </a:lnTo>
                <a:lnTo>
                  <a:pt x="0" y="21600"/>
                </a:lnTo>
                <a:close/>
              </a:path>
              <a:path fill="lightenLess" w="24359" h="21600">
                <a:moveTo>
                  <a:pt x="0" y="0"/>
                </a:moveTo>
                <a:lnTo>
                  <a:pt x="24359" y="0"/>
                </a:lnTo>
                <a:lnTo>
                  <a:pt x="22959" y="1400"/>
                </a:lnTo>
                <a:lnTo>
                  <a:pt x="1400" y="1400"/>
                </a:lnTo>
                <a:close/>
              </a:path>
              <a:path fill="darken" w="24359" h="21600">
                <a:moveTo>
                  <a:pt x="24359" y="0"/>
                </a:moveTo>
                <a:lnTo>
                  <a:pt x="24359" y="21600"/>
                </a:lnTo>
                <a:lnTo>
                  <a:pt x="22959" y="20200"/>
                </a:lnTo>
                <a:lnTo>
                  <a:pt x="22959" y="1400"/>
                </a:lnTo>
                <a:close/>
              </a:path>
              <a:path fill="darkenLess" w="24359" h="21600">
                <a:moveTo>
                  <a:pt x="24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9" y="20200"/>
                </a:lnTo>
                <a:close/>
              </a:path>
              <a:path fill="lighten" w="24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9" h="21600">
                <a:moveTo>
                  <a:pt x="5173" y="7493"/>
                </a:moveTo>
                <a:lnTo>
                  <a:pt x="8681" y="7493"/>
                </a:lnTo>
                <a:lnTo>
                  <a:pt x="8681" y="12828"/>
                </a:lnTo>
                <a:cubicBezTo>
                  <a:pt x="8681" y="13751"/>
                  <a:pt x="9481" y="14482"/>
                  <a:pt x="10517" y="14482"/>
                </a:cubicBezTo>
                <a:lnTo>
                  <a:pt x="12180" y="14482"/>
                </a:lnTo>
                <a:cubicBezTo>
                  <a:pt x="13215" y="14482"/>
                  <a:pt x="14016" y="13751"/>
                  <a:pt x="14016" y="12828"/>
                </a:cubicBezTo>
                <a:lnTo>
                  <a:pt x="14016" y="7493"/>
                </a:lnTo>
                <a:lnTo>
                  <a:pt x="12180" y="7493"/>
                </a:lnTo>
                <a:lnTo>
                  <a:pt x="15687" y="3985"/>
                </a:lnTo>
                <a:lnTo>
                  <a:pt x="19360" y="7493"/>
                </a:lnTo>
                <a:lnTo>
                  <a:pt x="17524" y="7493"/>
                </a:lnTo>
                <a:lnTo>
                  <a:pt x="17524" y="12828"/>
                </a:lnTo>
                <a:cubicBezTo>
                  <a:pt x="17524" y="15596"/>
                  <a:pt x="14947" y="18155"/>
                  <a:pt x="12180" y="18155"/>
                </a:cubicBezTo>
                <a:lnTo>
                  <a:pt x="10517" y="18155"/>
                </a:lnTo>
                <a:cubicBezTo>
                  <a:pt x="7749" y="18155"/>
                  <a:pt x="5173" y="15596"/>
                  <a:pt x="5173" y="12828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2"/>
          <p:cNvSpPr/>
          <p:nvPr/>
        </p:nvSpPr>
        <p:spPr>
          <a:xfrm>
            <a:off x="344520" y="4780080"/>
            <a:ext cx="8424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y Nº 25.248 y Decreto Reglamentario Nº 1038 del año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mas reglamentarias de la citada ley que definen con precisión el correcto y adecuado tratamiento tributario que debe asignarse a los referidos contratos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366840" y="2033640"/>
            <a:ext cx="8385120" cy="22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3 Gráfico"/>
          <p:cNvGraphicFramePr/>
          <p:nvPr/>
        </p:nvGraphicFramePr>
        <p:xfrm>
          <a:off x="395280" y="907920"/>
          <a:ext cx="8280360" cy="521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3 Gráfic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07920"/>
                    <a:ext cx="828036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5 CuadroTexto"/>
          <p:cNvSpPr/>
          <p:nvPr/>
        </p:nvSpPr>
        <p:spPr>
          <a:xfrm>
            <a:off x="755640" y="623736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uente: A.L.A. Asociación de Leasing de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258920" y="33336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Black"/>
              </a:rPr>
              <a:t>MERCADO DE LEASING ARGEN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345960" y="291960"/>
            <a:ext cx="1500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55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Black"/>
                <a:ea typeface="Arial"/>
              </a:rPr>
              <a:t>PROVINCIA LEASING EN EL MERC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611280" y="1036800"/>
            <a:ext cx="7907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Miembro activo de la Asociación de Leasing Argentino A.L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Dentro de los 10 dadores líderes del mercado Argen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5 Gráfico"/>
          <p:cNvGraphicFramePr/>
          <p:nvPr/>
        </p:nvGraphicFramePr>
        <p:xfrm>
          <a:off x="353880" y="2421000"/>
          <a:ext cx="8504280" cy="3530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" name="5 Gráfic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3880" y="2421000"/>
                    <a:ext cx="850428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5 CuadroTexto"/>
          <p:cNvSpPr/>
          <p:nvPr/>
        </p:nvSpPr>
        <p:spPr>
          <a:xfrm>
            <a:off x="755640" y="623736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uente: A.L.A. Asociación de Leasing de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5"/>
          <a:stretch/>
        </p:blipFill>
        <p:spPr>
          <a:xfrm>
            <a:off x="345960" y="291960"/>
            <a:ext cx="1500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3 Marcador de contenido"/>
          <p:cNvGraphicFramePr/>
          <p:nvPr/>
        </p:nvGraphicFramePr>
        <p:xfrm>
          <a:off x="152280" y="1413000"/>
          <a:ext cx="4419720" cy="360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3 Marcador de contenid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13000"/>
                    <a:ext cx="4419720" cy="3601800"/>
                  </a:xfrm>
                  <a:prstGeom prst="rect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" name="Object 7"/>
          <p:cNvGraphicFramePr/>
          <p:nvPr/>
        </p:nvGraphicFramePr>
        <p:xfrm>
          <a:off x="4738680" y="1401840"/>
          <a:ext cx="4219560" cy="3601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8680" y="1401840"/>
                    <a:ext cx="4219560" cy="3601800"/>
                  </a:xfrm>
                  <a:prstGeom prst="rect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9" name="Rectangle 9"/>
          <p:cNvSpPr/>
          <p:nvPr/>
        </p:nvSpPr>
        <p:spPr>
          <a:xfrm>
            <a:off x="1835280" y="46980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 Black"/>
              </a:rPr>
              <a:t>Composición de la car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 CuadroTexto"/>
          <p:cNvSpPr/>
          <p:nvPr/>
        </p:nvSpPr>
        <p:spPr>
          <a:xfrm>
            <a:off x="755640" y="623736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uente: A.L.A. Asociación de Leasing de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5"/>
          <a:stretch/>
        </p:blipFill>
        <p:spPr>
          <a:xfrm>
            <a:off x="345960" y="291960"/>
            <a:ext cx="1500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040"/>
                </a:solidFill>
                <a:latin typeface="Arial Black"/>
              </a:rPr>
              <a:t>	</a:t>
            </a:r>
            <a:r>
              <a:rPr b="1" lang="es-MX" sz="2800" spc="-1" strike="noStrike">
                <a:solidFill>
                  <a:srgbClr val="404040"/>
                </a:solidFill>
                <a:latin typeface="Arial Black"/>
              </a:rPr>
              <a:t>¿Qué es el Leas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322200" y="3284640"/>
            <a:ext cx="847584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Arial"/>
                <a:ea typeface="ＭＳ Ｐゴシック"/>
              </a:rPr>
              <a:t>Leasing para emp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El 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leasing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es una herramienta financiera orientada a </a:t>
            </a:r>
            <a:r>
              <a:rPr b="1" lang="en-US" sz="2800" spc="-1" strike="noStrike" u="sng">
                <a:solidFill>
                  <a:srgbClr val="404040"/>
                </a:solidFill>
                <a:uFillTx/>
                <a:latin typeface="Arial"/>
                <a:ea typeface="ＭＳ Ｐゴシック"/>
              </a:rPr>
              <a:t>incrementar el potencial productivo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, brindando la posibilidad de incorporar </a:t>
            </a:r>
            <a:r>
              <a:rPr b="1" lang="en-US" sz="2800" spc="-1" strike="noStrike" u="sng">
                <a:solidFill>
                  <a:srgbClr val="404040"/>
                </a:solidFill>
                <a:uFillTx/>
                <a:latin typeface="Arial"/>
                <a:ea typeface="ＭＳ Ｐゴシック"/>
              </a:rPr>
              <a:t>bienes de capital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 CuadroTexto"/>
          <p:cNvSpPr/>
          <p:nvPr/>
        </p:nvSpPr>
        <p:spPr>
          <a:xfrm>
            <a:off x="523800" y="1324080"/>
            <a:ext cx="8064720" cy="137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Leasing Financiero: Herramienta de Financiación de Mediano y Largo Pla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45960" y="291960"/>
            <a:ext cx="1500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571680" y="1989000"/>
            <a:ext cx="795960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En el contrato de leasing, el </a:t>
            </a:r>
            <a:r>
              <a:rPr b="1" lang="es-AR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dador</a:t>
            </a:r>
            <a:r>
              <a:rPr b="0" lang="es-AR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conviene transferir al </a:t>
            </a:r>
            <a:r>
              <a:rPr b="1" lang="es-AR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tomador</a:t>
            </a:r>
            <a:r>
              <a:rPr b="0" lang="es-AR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la tenencia de un </a:t>
            </a:r>
            <a:r>
              <a:rPr b="1" lang="es-AR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bien cierto y determinado para su uso y goce</a:t>
            </a:r>
            <a:r>
              <a:rPr b="0" lang="es-AR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, contra el </a:t>
            </a:r>
            <a:r>
              <a:rPr b="1" lang="es-AR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pago de un canon</a:t>
            </a:r>
            <a:r>
              <a:rPr b="0" lang="es-AR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y le confiere una </a:t>
            </a:r>
            <a:r>
              <a:rPr b="1" lang="es-AR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opción de compra</a:t>
            </a:r>
            <a:r>
              <a:rPr b="0" lang="es-AR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por un pre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2411280" y="28584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404040"/>
                </a:solidFill>
                <a:latin typeface="Arial Black"/>
                <a:ea typeface="ＭＳ Ｐゴシック"/>
              </a:rPr>
              <a:t>Definición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345960" y="291960"/>
            <a:ext cx="1500480" cy="5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6"/>
          <p:cNvSpPr/>
          <p:nvPr/>
        </p:nvSpPr>
        <p:spPr>
          <a:xfrm>
            <a:off x="1476360" y="214200"/>
            <a:ext cx="62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404040"/>
                </a:solidFill>
                <a:latin typeface="Arial Black"/>
                <a:ea typeface="ＭＳ Ｐゴシック"/>
              </a:rPr>
              <a:t>	</a:t>
            </a:r>
            <a:r>
              <a:rPr b="1" lang="es-AR" sz="2800" spc="-1" strike="noStrike">
                <a:solidFill>
                  <a:srgbClr val="404040"/>
                </a:solidFill>
                <a:latin typeface="Arial Black"/>
                <a:ea typeface="ＭＳ Ｐゴシック"/>
              </a:rPr>
              <a:t> </a:t>
            </a:r>
            <a:r>
              <a:rPr b="1" lang="es-AR" sz="2800" spc="-1" strike="noStrike">
                <a:solidFill>
                  <a:srgbClr val="404040"/>
                </a:solidFill>
                <a:latin typeface="Arial Black"/>
                <a:ea typeface="ＭＳ Ｐゴシック"/>
              </a:rPr>
              <a:t>Quienes intervi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63360" y="1386000"/>
            <a:ext cx="79614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0720" indent="-285840">
              <a:lnSpc>
                <a:spcPct val="100000"/>
              </a:lnSpc>
              <a:spcBef>
                <a:spcPts val="224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Dador (Provincia Leasing S.A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5840">
              <a:lnSpc>
                <a:spcPct val="100000"/>
              </a:lnSpc>
              <a:spcBef>
                <a:spcPts val="224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Tomador (Cli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5840">
              <a:lnSpc>
                <a:spcPct val="100000"/>
              </a:lnSpc>
              <a:spcBef>
                <a:spcPts val="224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Proveedor (A elección del Cli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539640" y="3511440"/>
            <a:ext cx="1860840" cy="925560"/>
          </a:xfrm>
          <a:prstGeom prst="flowChartProcess">
            <a:avLst/>
          </a:prstGeom>
          <a:solidFill>
            <a:srgbClr val="0991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7"/>
          <p:cNvCxnSpPr/>
          <p:nvPr/>
        </p:nvCxnSpPr>
        <p:spPr>
          <a:xfrm flipH="1" rot="16200000">
            <a:off x="4103280" y="836280"/>
            <a:ext cx="2160" cy="5256720"/>
          </a:xfrm>
          <a:prstGeom prst="bentConnector3">
            <a:avLst>
              <a:gd name="adj1" fmla="val -20700000"/>
            </a:avLst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3" name="AutoShape 8"/>
          <p:cNvSpPr/>
          <p:nvPr/>
        </p:nvSpPr>
        <p:spPr>
          <a:xfrm>
            <a:off x="6599160" y="3511440"/>
            <a:ext cx="1860480" cy="925560"/>
          </a:xfrm>
          <a:prstGeom prst="flowChartProcess">
            <a:avLst/>
          </a:prstGeom>
          <a:solidFill>
            <a:srgbClr val="0892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m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4151160" y="5816520"/>
            <a:ext cx="1860840" cy="925560"/>
          </a:xfrm>
          <a:prstGeom prst="flowChartProcess">
            <a:avLst/>
          </a:prstGeom>
          <a:solidFill>
            <a:srgbClr val="0892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ve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AutoShape 10"/>
          <p:cNvCxnSpPr>
            <a:stCxn id="84" idx="3"/>
            <a:endCxn id="83" idx="2"/>
          </p:cNvCxnSpPr>
          <p:nvPr/>
        </p:nvCxnSpPr>
        <p:spPr>
          <a:xfrm flipV="1">
            <a:off x="6011640" y="4436640"/>
            <a:ext cx="1518120" cy="1843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6" name="AutoShape 11"/>
          <p:cNvCxnSpPr>
            <a:stCxn id="81" idx="2"/>
            <a:endCxn id="84" idx="1"/>
          </p:cNvCxnSpPr>
          <p:nvPr/>
        </p:nvCxnSpPr>
        <p:spPr>
          <a:xfrm flipH="1" rot="16200000">
            <a:off x="1888920" y="4017600"/>
            <a:ext cx="1843920" cy="26820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Text Box 15"/>
          <p:cNvSpPr/>
          <p:nvPr/>
        </p:nvSpPr>
        <p:spPr>
          <a:xfrm>
            <a:off x="2841480" y="2670840"/>
            <a:ext cx="29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o de l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6362640" y="4581360"/>
            <a:ext cx="25178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uerdo comercial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acta condiciones comp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8"/>
          <p:cNvSpPr/>
          <p:nvPr/>
        </p:nvSpPr>
        <p:spPr>
          <a:xfrm>
            <a:off x="4021200" y="5264280"/>
            <a:ext cx="21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ga bi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AutoShape 39"/>
          <p:cNvCxnSpPr>
            <a:stCxn id="84" idx="0"/>
            <a:endCxn id="83" idx="1"/>
          </p:cNvCxnSpPr>
          <p:nvPr/>
        </p:nvCxnSpPr>
        <p:spPr>
          <a:xfrm flipH="1" flipV="1" rot="5400000">
            <a:off x="4919400" y="4136400"/>
            <a:ext cx="1842120" cy="15181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 Box 32"/>
          <p:cNvSpPr/>
          <p:nvPr/>
        </p:nvSpPr>
        <p:spPr>
          <a:xfrm>
            <a:off x="380880" y="494028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 bi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5" descr="MC900250043[1]"/>
          <p:cNvPicPr/>
          <p:nvPr/>
        </p:nvPicPr>
        <p:blipFill>
          <a:blip r:embed="rId4"/>
          <a:stretch/>
        </p:blipFill>
        <p:spPr>
          <a:xfrm>
            <a:off x="6959520" y="5518080"/>
            <a:ext cx="1068480" cy="107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3" descr="MC900293174[1]"/>
          <p:cNvPicPr/>
          <p:nvPr/>
        </p:nvPicPr>
        <p:blipFill>
          <a:blip r:embed="rId5"/>
          <a:stretch/>
        </p:blipFill>
        <p:spPr>
          <a:xfrm>
            <a:off x="755640" y="5516640"/>
            <a:ext cx="1001880" cy="1008000"/>
          </a:xfrm>
          <a:prstGeom prst="rect">
            <a:avLst/>
          </a:prstGeom>
          <a:ln w="0">
            <a:noFill/>
          </a:ln>
        </p:spPr>
      </p:pic>
      <p:sp>
        <p:nvSpPr>
          <p:cNvPr id="94" name="Line 49"/>
          <p:cNvSpPr/>
          <p:nvPr/>
        </p:nvSpPr>
        <p:spPr>
          <a:xfrm>
            <a:off x="2411280" y="371628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0"/>
          <p:cNvSpPr/>
          <p:nvPr/>
        </p:nvSpPr>
        <p:spPr>
          <a:xfrm>
            <a:off x="2900520" y="311364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ud y aprob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4" descr="MC900282344[1]"/>
          <p:cNvPicPr/>
          <p:nvPr/>
        </p:nvPicPr>
        <p:blipFill>
          <a:blip r:embed="rId6"/>
          <a:stretch/>
        </p:blipFill>
        <p:spPr>
          <a:xfrm>
            <a:off x="5508720" y="2276640"/>
            <a:ext cx="815760" cy="82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3"/>
          <p:cNvSpPr/>
          <p:nvPr/>
        </p:nvSpPr>
        <p:spPr>
          <a:xfrm>
            <a:off x="3238560" y="3643920"/>
            <a:ext cx="19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ga el ca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3"/>
          <p:cNvSpPr/>
          <p:nvPr/>
        </p:nvSpPr>
        <p:spPr>
          <a:xfrm>
            <a:off x="3022560" y="4075920"/>
            <a:ext cx="19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rce O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/>
          <p:nvPr/>
        </p:nvCxnSpPr>
        <p:spPr>
          <a:xfrm flipH="1">
            <a:off x="2483640" y="4149360"/>
            <a:ext cx="4033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356000" y="4422600"/>
            <a:ext cx="1454400" cy="951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9"/>
          <a:stretch/>
        </p:blipFill>
        <p:spPr>
          <a:xfrm>
            <a:off x="345960" y="291960"/>
            <a:ext cx="1500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6"/>
          <p:cNvSpPr/>
          <p:nvPr/>
        </p:nvSpPr>
        <p:spPr>
          <a:xfrm>
            <a:off x="1332000" y="262080"/>
            <a:ext cx="63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404040"/>
                </a:solidFill>
                <a:latin typeface="Arial Black"/>
                <a:ea typeface="ＭＳ Ｐゴシック"/>
              </a:rPr>
              <a:t>	</a:t>
            </a:r>
            <a:r>
              <a:rPr b="1" lang="es-AR" sz="2800" spc="-1" strike="noStrike">
                <a:solidFill>
                  <a:srgbClr val="404040"/>
                </a:solidFill>
                <a:latin typeface="Arial Black"/>
                <a:ea typeface="ＭＳ Ｐゴシック"/>
              </a:rPr>
              <a:t>Contrato de le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7"/>
          <p:cNvSpPr/>
          <p:nvPr/>
        </p:nvSpPr>
        <p:spPr>
          <a:xfrm>
            <a:off x="266760" y="1581120"/>
            <a:ext cx="856944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200000"/>
              </a:lnSpc>
              <a:spcBef>
                <a:spcPts val="3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Objeto (Bie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200000"/>
              </a:lnSpc>
              <a:spcBef>
                <a:spcPts val="3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Plazo (Decreto Reglamentar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200000"/>
              </a:lnSpc>
              <a:spcBef>
                <a:spcPts val="3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Canon (Pago por el uso y go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200000"/>
              </a:lnSpc>
              <a:spcBef>
                <a:spcPts val="3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Opción de compra (Derecho del tomador al finalizar el contra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" action="ppaction://hlinkshowjump?jump=lastslide"/>
          </p:cNvPr>
          <p:cNvSpPr/>
          <p:nvPr/>
        </p:nvSpPr>
        <p:spPr>
          <a:xfrm>
            <a:off x="6500880" y="278280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1542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0848" h="21600">
                <a:moveTo>
                  <a:pt x="1542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0848" h="21600">
                <a:moveTo>
                  <a:pt x="12848" y="8224"/>
                </a:moveTo>
                <a:lnTo>
                  <a:pt x="16712" y="8224"/>
                </a:lnTo>
                <a:lnTo>
                  <a:pt x="16712" y="15221"/>
                </a:lnTo>
                <a:lnTo>
                  <a:pt x="18000" y="15221"/>
                </a:lnTo>
                <a:lnTo>
                  <a:pt x="18000" y="16144"/>
                </a:lnTo>
                <a:lnTo>
                  <a:pt x="12848" y="16144"/>
                </a:lnTo>
                <a:lnTo>
                  <a:pt x="12848" y="15221"/>
                </a:lnTo>
                <a:lnTo>
                  <a:pt x="14136" y="15221"/>
                </a:lnTo>
                <a:lnTo>
                  <a:pt x="14136" y="9129"/>
                </a:lnTo>
                <a:lnTo>
                  <a:pt x="12848" y="912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5"/>
          <a:stretch/>
        </p:blipFill>
        <p:spPr>
          <a:xfrm>
            <a:off x="345960" y="291960"/>
            <a:ext cx="1500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547640" y="2858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404040"/>
                </a:solidFill>
                <a:latin typeface="Arial Black"/>
                <a:ea typeface="ＭＳ Ｐゴシック"/>
              </a:rPr>
              <a:t>    </a:t>
            </a:r>
            <a:r>
              <a:rPr b="1" lang="es-AR" sz="2800" spc="-1" strike="noStrike">
                <a:solidFill>
                  <a:srgbClr val="404040"/>
                </a:solidFill>
                <a:latin typeface="Arial Black"/>
                <a:ea typeface="ＭＳ Ｐゴシック"/>
              </a:rPr>
              <a:t>Qué financiamos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2014560"/>
            <a:ext cx="898524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9280" indent="-27000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Maquinaria Industrial</a:t>
            </a:r>
            <a:r>
              <a:rPr b="0" lang="es-AR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(Tornos, inyectoras, líneas de producción, plegadoras, equipos de GNC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 algn="just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Equipos de transporte</a:t>
            </a:r>
            <a:r>
              <a:rPr b="0" lang="es-AR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(camiones, semirremolques, acoplados, cajas, utilitarios, pick-u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 algn="just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Maquinaria vial</a:t>
            </a:r>
            <a:r>
              <a:rPr b="0" lang="es-AR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(retroexcavadoras, palas cargadoras, fresadoras, rodill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 algn="just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Equipos de logística</a:t>
            </a:r>
            <a:r>
              <a:rPr b="0" lang="es-AR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(auto elevadores, grúas, montacargas, pórti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Maquinaria agrícola</a:t>
            </a:r>
            <a:r>
              <a:rPr b="0" lang="es-AR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(tractores, cosechadoras, sembradoras, picadoras de forraje, pulverizadores, mixers, rotoenfardado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7000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Otros</a:t>
            </a:r>
            <a:r>
              <a:rPr b="0" lang="es-AR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bienes muebles (sujetos a aprobación de PL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3 Rectángulo"/>
          <p:cNvSpPr/>
          <p:nvPr/>
        </p:nvSpPr>
        <p:spPr>
          <a:xfrm>
            <a:off x="3049560" y="118584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404040"/>
                </a:solidFill>
                <a:uFillTx/>
                <a:latin typeface="Arial Black"/>
                <a:ea typeface="ＭＳ Ｐゴシック"/>
              </a:rPr>
              <a:t>Bienes de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7"/>
          <a:stretch/>
        </p:blipFill>
        <p:spPr>
          <a:xfrm>
            <a:off x="395280" y="291960"/>
            <a:ext cx="15001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7:35:30Z</dcterms:created>
  <dc:creator>gnavarro</dc:creator>
  <dc:description/>
  <dc:language>en-US</dc:language>
  <cp:lastModifiedBy>olopez</cp:lastModifiedBy>
  <dcterms:modified xsi:type="dcterms:W3CDTF">2011-07-27T22:58:32Z</dcterms:modified>
  <cp:revision>221</cp:revision>
  <dc:subject/>
  <dc:title>Diapositiva 1</dc:title>
</cp:coreProperties>
</file>